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E89-4F93-427F-97FC-AA1AEEDD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D4B-EEB9-415B-B184-99E8E398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769-FD5F-4E00-9C52-81050559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087-6F1F-4E1D-A639-67AB76F7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FCF-0D9D-45DB-8BDC-285AAF7A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9B7-3E19-40A0-8664-6AA5A3E3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370-647B-484A-B184-92936E2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631-72C0-4A04-91E7-6F1B33A9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174-7C52-46E1-9010-858D0EFF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D5A-BBF2-4405-A8FF-2B0158E3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55D-FB92-4B63-8169-3EB1BBF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D27-A329-4ABF-8517-7DA1B99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1BCA-A33F-4216-BD8A-9E64C0EC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ip.office.microsoft.com/en-us/images/MH900441421.jpg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HUNT JA </a:t>
            </a: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ITSE KITSE-TA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hiilimised,hiiliv,hundid,hunt lambanahas,jahid,jahtimine,lambad,loodus,loomad,loomamuinasjutud,müüdid,riukalik,trikid"/>
          <p:cNvPicPr/>
          <p:nvPr/>
        </p:nvPicPr>
        <p:blipFill>
          <a:blip r:embed="rId1"/>
          <a:stretch/>
        </p:blipFill>
        <p:spPr>
          <a:xfrm>
            <a:off x="4716360" y="549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UNT MEELITAS ILUSA HÄÄLEGA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  KÄPAD OLID VALGED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TSE-TALLED EI TUNDNUD HUNTI ÄRA. NAD TEGID UKSE LAHTI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UNT TULI TUPPA JA SÕI TALLED Ä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371600" y="2743200"/>
          <a:ext cx="648000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43200"/>
                    <a:ext cx="648000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A18-339F-4F20-8C72-3FB0E0BB21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ITSE-EMA JÕUDIS KOJU. </a:t>
            </a:r>
            <a:br>
              <a:rPr sz="2800"/>
            </a:b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ODU OLI SEGAMINI. </a:t>
            </a:r>
            <a:br>
              <a:rPr sz="2800"/>
            </a:b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INULT ÜKS KITSE-TALL JOOKSIS EMA JUURDE. </a:t>
            </a:r>
            <a:br>
              <a:rPr sz="2800"/>
            </a:b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DA HUNT EI LEIDN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95280" y="1916280"/>
          <a:ext cx="488304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488304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800600" y="4038480"/>
            <a:ext cx="4105440" cy="2819520"/>
          </a:xfrm>
          <a:prstGeom prst="cloudCallout">
            <a:avLst>
              <a:gd name="adj1" fmla="val -59782"/>
              <a:gd name="adj2" fmla="val -27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UNT SÕI KÕIK VENNAD Ä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3745080" cy="2189160"/>
          </a:xfrm>
          <a:prstGeom prst="cloudCallout">
            <a:avLst>
              <a:gd name="adj1" fmla="val -74754"/>
              <a:gd name="adj2" fmla="val 7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OI, KALLI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S TEISED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5B1-5578-49FC-B84B-084C9AD033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ITSE-EMA NÄGI AIAS HUNTI. </a:t>
            </a:r>
            <a:br>
              <a:rPr sz="3000"/>
            </a:b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HUNT MAGAS PUU ALL. </a:t>
            </a:r>
            <a:br>
              <a:rPr sz="3000"/>
            </a:b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EMA  KÕHT OLI VÄGA TÄIS. </a:t>
            </a:r>
            <a:br>
              <a:rPr sz="3000"/>
            </a:b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ITSE-EMA LÕIKAS HUNDI KÕHU KATKI.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08360" y="1773360"/>
          <a:ext cx="4896000" cy="45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48960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39640" y="594360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IK TALLED HÜPPASID HUNDI KÕHUST VÄL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329-91C3-40D0-8A1C-BC9964B803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TSE-EMA PANI HUNDI KÕHTU KIVID. SIIS ÕMBLES TA HUNDI KÕHU KINNI. ÕHTUL HUNT ÄRKAS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 LÄKS JÕE ÄÄRDE JOO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2349360"/>
          <a:ext cx="5040360" cy="37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5040360" cy="37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643280" y="4365720"/>
            <a:ext cx="4248360" cy="2160360"/>
          </a:xfrm>
          <a:prstGeom prst="cloudCallout">
            <a:avLst>
              <a:gd name="adj1" fmla="val -73092"/>
              <a:gd name="adj2" fmla="val -66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UL ON JA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OI, KUI RASKE MU KÕHT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2C4-C79F-4EC1-8D20-081A3B7171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SKED KIVID TÕMBASID HUNDI VETTE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 EI JÕUDNUD UJUDA. KURI HUNT UPPUS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92360" y="1484280"/>
          <a:ext cx="582768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84280"/>
                    <a:ext cx="58276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39640" y="558972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TSE-PERE LÄKS OMA KOJU TAGASI. NAD ELASID RÕÕMSALT KOOS ED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682-77D3-40A9-8FB1-5AC67D6B7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Kasutatud pild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llustratsioonid Tony Wo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Maailma kauneimad muinaslood,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rsen kirjastus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ternet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ülastatud 1.aprill 2012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ip.office.microsoft.com/en-us/images/MH90044142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0D8-81A5-480A-8387-60DF877259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7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LAS KORD KITSE-EMA. TAL OLI SEITSE TALLE. NAD ELASID OMA MAJAS. </a:t>
            </a:r>
            <a:br>
              <a:rPr sz="2800"/>
            </a:b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HEL PÄEVAL LÄKS EMA VÄLJA. </a:t>
            </a:r>
            <a:br>
              <a:rPr sz="2800"/>
            </a:b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A HOIATAS LAPSI HUNDI E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92360" y="2133720"/>
          <a:ext cx="695016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695016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95280" y="5013360"/>
            <a:ext cx="8497800" cy="1844640"/>
          </a:xfrm>
          <a:prstGeom prst="cloudCallout">
            <a:avLst>
              <a:gd name="adj1" fmla="val 6620"/>
              <a:gd name="adj2" fmla="val -152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ÄRGE UST LAHTI TEHK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URI HUNT TULEB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L ON SUURED KÄPAD JA KOLE HÄÄ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2AF-50BF-4355-8BD3-94BB186585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TSE-TALLED JÄID ÜKSI KOJU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UNT KUULIS KITSE-EMA JUT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27640" y="1844640"/>
          <a:ext cx="432108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844640"/>
                    <a:ext cx="432108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24000" y="2997360"/>
            <a:ext cx="4932360" cy="3456000"/>
          </a:xfrm>
          <a:prstGeom prst="cloudCallout">
            <a:avLst>
              <a:gd name="adj1" fmla="val 53379"/>
              <a:gd name="adj2" fmla="val -50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ÜÜD SAAN TALLED KÄT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OI, MULLE  MAITSEVAD KITSE-TA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D71-4539-4F44-9535-0ED3FE445D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UNT JOOKSIS MAJA JUURDE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 HÜÜDIS KOLEDA HÄÄL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2133720"/>
          <a:ext cx="446400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44640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419640" y="1773360"/>
            <a:ext cx="5724360" cy="2592360"/>
          </a:xfrm>
          <a:prstGeom prst="cloudCallout">
            <a:avLst>
              <a:gd name="adj1" fmla="val -50944"/>
              <a:gd name="adj2" fmla="val 7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HKE UKS LAHTI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A OLEN TEIE 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ULIN TAG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FEE-2B77-4500-B866-AE7A2C087C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EDEL OLI MEELES EMA HOIATUS. NAD TUNDSID HUNDI HÄÄLE ÄRA.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D EI TEINUD UST LAH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95640" y="1628640"/>
          <a:ext cx="471816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628640"/>
                    <a:ext cx="471816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52280" y="2057400"/>
            <a:ext cx="5004000" cy="3247920"/>
          </a:xfrm>
          <a:prstGeom prst="cloudCallout">
            <a:avLst>
              <a:gd name="adj1" fmla="val 54472"/>
              <a:gd name="adj2" fmla="val 20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A EI OLE MEIE EMA. SUL ON KOLE HÄÄL. EMAL ON ILUS HÄÄL. MINE Ä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URI HU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704-75A4-4367-A7D6-609A61A993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UNT OLI VIHANE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 JOOKSIS KOOGI-POO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268280"/>
          <a:ext cx="4608360" cy="43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4608360" cy="43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51280" y="1197000"/>
            <a:ext cx="4932360" cy="2448000"/>
          </a:xfrm>
          <a:prstGeom prst="cloudCallout">
            <a:avLst>
              <a:gd name="adj1" fmla="val -44884"/>
              <a:gd name="adj2" fmla="val 26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SÖÖN PALJU MAGUS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AGUS MUUDAB HÄÄLE ILUS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558972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IIS JOOKSIS HUNT TAGASI MAJA JUU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16D-F967-4387-A1F8-DDF9D37B9E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JA UKS OLI LUKUS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UNT MEELITAS ILUSA HÄÄL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1557360"/>
          <a:ext cx="475272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475272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059280" y="4365720"/>
            <a:ext cx="6084720" cy="2198520"/>
          </a:xfrm>
          <a:prstGeom prst="cloudCallout">
            <a:avLst>
              <a:gd name="adj1" fmla="val -39486"/>
              <a:gd name="adj2" fmla="val -90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LLID LAPS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A OLEN TEIE EMA. TEHKE UKS LAHTI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74E-BE0F-469B-BF68-13D2E6113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ED ARVASID, ET SEE ON EMA HÄÄL. ÜKS TALLEKE KAHTLES: EI TEA, KAS SEE ON IKKA EM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19640" y="1700280"/>
          <a:ext cx="482436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9640" y="1700280"/>
                    <a:ext cx="482436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57200" y="1905120"/>
            <a:ext cx="3743280" cy="1600200"/>
          </a:xfrm>
          <a:prstGeom prst="cloudCallout">
            <a:avLst>
              <a:gd name="adj1" fmla="val 62638"/>
              <a:gd name="adj2" fmla="val 725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NÄITA OMA KÄPP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005360"/>
            <a:ext cx="4716360" cy="2319120"/>
          </a:xfrm>
          <a:prstGeom prst="cloudCallout">
            <a:avLst>
              <a:gd name="adj1" fmla="val 58550"/>
              <a:gd name="adj2" fmla="val -15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UL ON MUSTAD KÄPA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MINE ÄRA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KURI HU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3F3-8F08-43F3-886E-AF26181F2F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ÜÜD VÕTTIS HUNT JAHU-KOTI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 PANI KÄPA JAHU SISSE. </a:t>
            </a:r>
            <a:br>
              <a:rPr sz="3200"/>
            </a:b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UNDI KÄPAD SAID VALG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11640" y="1628640"/>
          <a:ext cx="454824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628640"/>
                    <a:ext cx="454824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79280" y="1989000"/>
            <a:ext cx="4464000" cy="3745080"/>
          </a:xfrm>
          <a:prstGeom prst="cloudCallout">
            <a:avLst>
              <a:gd name="adj1" fmla="val 65574"/>
              <a:gd name="adj2" fmla="val -15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EN KÄPAD VALGEKS NAGU KITSE-EMAL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ÜÜD N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I TUNNE MIND ÄR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F13-10CF-4C64-A1BF-AADBA3F83C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1:33:26Z</dcterms:created>
  <dc:creator>Liivi Lubi</dc:creator>
  <dc:description/>
  <dc:language>en-US</dc:language>
  <cp:lastModifiedBy>Liivi Lubi</cp:lastModifiedBy>
  <dcterms:modified xsi:type="dcterms:W3CDTF">2012-04-01T16:00:18Z</dcterms:modified>
  <cp:revision>57</cp:revision>
  <dc:subject/>
  <dc:title>Hunt ja seitse kitsetalle</dc:title>
</cp:coreProperties>
</file>